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964D-ECF3-4F00-88CE-2DEFDB43F62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C611-24C3-4DBB-9C5E-19FB1013ACB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474A-8CBB-4103-BF7F-B4ACD2E7CA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94C4-C1D4-4EBB-898F-3BA0593EDCF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7C1D-36EE-43B7-B153-02F581496BC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66A6-0604-4E38-9BDC-5522F4824CE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2145-C5A1-419D-B77C-F8BA81A712A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8580-6B07-4C10-BE75-0F3D9141DF9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0F25-9BAC-4DAB-9E71-113721FC41E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E82D-6DB8-4034-BB0E-1F8BE7E2B58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7B2A-9D93-4340-B257-10225C926BA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5EC-73EC-4D33-8FC9-33B0D8C9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681-FACF-48B8-9CED-67E2B53B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3F3-ABAA-48D0-A76C-61738441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8B8-46A1-44DF-A1FE-6F04ACFE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E0E0-AA9D-496A-8823-20E448E4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1B75-2225-4B4B-A2A0-FE6980F1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89A4-7CFE-4A03-8400-1C397E61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D573-D995-4B48-94E3-464CC462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7CD7-FA61-4F51-AC17-F518915A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BCCE-AFEF-42E5-A9D0-89E6F8B8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53EC-A1C6-45D9-89DE-D92D48DF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56B-48E0-45F5-A6FC-86324CEC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8885-5D0C-4E29-8E24-15A30839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2AB6-AC31-47A3-B3C0-70A20CA7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5ABB-95EB-42A5-A043-D6566D61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559E-B9B5-425C-9764-1CFCF8C2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DA9E-4D27-4D5A-8287-4FD91119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7FB-5DC9-494A-A87A-62A43874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B5E-6FE2-4AA6-BD22-A9C759E0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B96-3CCF-458E-B0F4-96C750C5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69E-18CA-44DB-88F9-432264ED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EB0-FF61-48FD-B4C7-D66D255C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829-16E8-4164-8048-8F804128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CD8-F2D0-4BEF-9C0A-E8CDF905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619A-4918-4E54-9238-4E4E983C992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9A24-6989-4A6F-BC4E-B2E7470E05E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직사각형 1"/>
          <p:cNvSpPr/>
          <p:nvPr/>
        </p:nvSpPr>
        <p:spPr>
          <a:xfrm>
            <a:off x="1709280" y="227664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여러분과 함께 해 주실 선생님들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2"/>
          <p:cNvSpPr/>
          <p:nvPr/>
        </p:nvSpPr>
        <p:spPr>
          <a:xfrm>
            <a:off x="1441440" y="3122640"/>
            <a:ext cx="64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소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한양대학교 연극영화과 겸임교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한국교육연극학회 아카데미 원장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영국 워릭대학교 석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한양대학교 박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진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 성남고 연극교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리랜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서은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문화예술교육 더베프 전속강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허정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영국 워릭대학교 석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리랜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1"/>
          <p:cNvSpPr/>
          <p:nvPr/>
        </p:nvSpPr>
        <p:spPr>
          <a:xfrm>
            <a:off x="899640" y="90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강사소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직사각형 1"/>
          <p:cNvSpPr/>
          <p:nvPr/>
        </p:nvSpPr>
        <p:spPr>
          <a:xfrm>
            <a:off x="1368720" y="90792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수업을 반추하는 활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직사각형 2"/>
          <p:cNvSpPr/>
          <p:nvPr/>
        </p:nvSpPr>
        <p:spPr>
          <a:xfrm>
            <a:off x="900000" y="2133720"/>
            <a:ext cx="73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행기 날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한문장으로 소감을 적고 비행기를 접어 날린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아이들은 비행기를 하나씩 골라 읽는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팀미션세우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앞으로의 결심을 한문장으로 적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        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코랄스피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로 표현한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직사각형 1"/>
          <p:cNvSpPr/>
          <p:nvPr/>
        </p:nvSpPr>
        <p:spPr>
          <a:xfrm>
            <a:off x="684360" y="220500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체조각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정지장면과 달리 비재현적 특징을 가진 이미지를 만드는 활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전쟁기념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납골당 장식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념물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예술전시회 등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준비된 사람이 하나씩 나와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자기 느낌을 정지동작으로 만들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다음 사람은 거기에 반응해도 좋고 그냥 자기 느낌대로 정지해도 좋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!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사각형 1"/>
          <p:cNvSpPr/>
          <p:nvPr/>
        </p:nvSpPr>
        <p:spPr>
          <a:xfrm>
            <a:off x="1368720" y="90792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수업을 반추하는 활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제목 1"/>
          <p:cNvSpPr/>
          <p:nvPr/>
        </p:nvSpPr>
        <p:spPr>
          <a:xfrm>
            <a:off x="2195640" y="2997360"/>
            <a:ext cx="453708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000000"/>
                </a:solidFill>
                <a:latin typeface="굴림"/>
              </a:rPr>
              <a:t>감사합니다</a:t>
            </a:r>
            <a:r>
              <a:rPr b="1" lang="en-US" sz="3800" spc="-1" strike="noStrike">
                <a:solidFill>
                  <a:srgbClr val="000000"/>
                </a:solidFill>
                <a:latin typeface="굴림"/>
              </a:rPr>
              <a:t>~!!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직사각형 1"/>
          <p:cNvSpPr/>
          <p:nvPr/>
        </p:nvSpPr>
        <p:spPr>
          <a:xfrm>
            <a:off x="1043280" y="954000"/>
            <a:ext cx="15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우리의 수업은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직사각형 2"/>
          <p:cNvSpPr/>
          <p:nvPr/>
        </p:nvSpPr>
        <p:spPr>
          <a:xfrm>
            <a:off x="1116000" y="1989000"/>
            <a:ext cx="66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극게임과 활동을 통해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들을 알고 서로 친해지는 다양한 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업을 위한 약속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활동을 중지하고 강사에게 주목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신뿐 아니라 다른 사람의 표현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발언도 소중히 보고 듣는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직사각형 1"/>
          <p:cNvSpPr/>
          <p:nvPr/>
        </p:nvSpPr>
        <p:spPr>
          <a:xfrm>
            <a:off x="1979640" y="2852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한문장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기 소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몸으로 소개하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체인사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1"/>
          <p:cNvSpPr/>
          <p:nvPr/>
        </p:nvSpPr>
        <p:spPr>
          <a:xfrm>
            <a:off x="1081440" y="90792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수업 초반에 필요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직사각형 1"/>
          <p:cNvSpPr/>
          <p:nvPr/>
        </p:nvSpPr>
        <p:spPr>
          <a:xfrm>
            <a:off x="601560" y="981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그룹을 파악하는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직사각형 2"/>
          <p:cNvSpPr/>
          <p:nvPr/>
        </p:nvSpPr>
        <p:spPr>
          <a:xfrm>
            <a:off x="1187280" y="2205000"/>
            <a:ext cx="6337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스펙트로 그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나는 겨울보다 여름을 잘 나는 편이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나는 활동수업에서 적극적인 편이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나는 한글학교 교사로서의 자부심이 크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직사각형 1"/>
          <p:cNvSpPr/>
          <p:nvPr/>
        </p:nvSpPr>
        <p:spPr>
          <a:xfrm>
            <a:off x="1262880" y="222084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코그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2"/>
          <p:cNvSpPr/>
          <p:nvPr/>
        </p:nvSpPr>
        <p:spPr>
          <a:xfrm>
            <a:off x="601560" y="981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그룹을 파악하는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1042920" y="2997360"/>
            <a:ext cx="792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나는 사계절 중 봄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여름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을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겨울을 좋아한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나는 풍물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진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미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연극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기타분야라고 할 수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나는 초등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중등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고등학교에서 가르친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직사각형 1"/>
          <p:cNvSpPr/>
          <p:nvPr/>
        </p:nvSpPr>
        <p:spPr>
          <a:xfrm>
            <a:off x="1371960" y="9079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양한 자리바꾸기 게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직사각형 2"/>
          <p:cNvSpPr/>
          <p:nvPr/>
        </p:nvSpPr>
        <p:spPr>
          <a:xfrm>
            <a:off x="1042920" y="227664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 안에서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자 다른 포즈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사하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사람을 응시해서 원 안으로 불러내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당신의 이웃을 사랑하십니까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샐러드게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눈마주친 사람과 바꾸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1"/>
          <p:cNvSpPr/>
          <p:nvPr/>
        </p:nvSpPr>
        <p:spPr>
          <a:xfrm>
            <a:off x="904320" y="83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름게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2"/>
          <p:cNvSpPr/>
          <p:nvPr/>
        </p:nvSpPr>
        <p:spPr>
          <a:xfrm>
            <a:off x="1042920" y="2205000"/>
            <a:ext cx="684216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하는 별명 붙이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름뜻 살펴보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른 팀이 몸으로 표현해주기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빨강공 파랑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아이엠그라운드 자기이름대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1"/>
          <p:cNvSpPr/>
          <p:nvPr/>
        </p:nvSpPr>
        <p:spPr>
          <a:xfrm>
            <a:off x="964800" y="90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알아가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2"/>
          <p:cNvSpPr/>
          <p:nvPr/>
        </p:nvSpPr>
        <p:spPr>
          <a:xfrm>
            <a:off x="709560" y="2349360"/>
            <a:ext cx="763272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짝궁 소개하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현재 자기 소속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장 힘들었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장 보람됬던 일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터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짝과 이야기를 나눈 후 상대방의 이미지를 조각상으로 표현한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짝의 몸을 가지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신체 그리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지에 서로의 몸 윤곽선을 그리고 친구의 장점을 써서 꾸며준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재미있는 포즈로 윤곽선을 그릴 수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자신의 몸을 간단히 그리고 신체부위별로 자신의 장점을 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직사각형 2"/>
          <p:cNvSpPr/>
          <p:nvPr/>
        </p:nvSpPr>
        <p:spPr>
          <a:xfrm>
            <a:off x="706320" y="1989000"/>
            <a:ext cx="755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지장면 만들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 조를 두 그룹으로 나누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글교사를 하면서 힘들었던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룹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-2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여명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’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즐거웠던 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그룹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-2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여명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’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지장면으로 만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매직핸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발표하면서 각 역할이 가지고 있는 생각을 교사의 신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깨에 손을 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따라 이야기 할 수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직사각형 3"/>
          <p:cNvSpPr/>
          <p:nvPr/>
        </p:nvSpPr>
        <p:spPr>
          <a:xfrm>
            <a:off x="1185840" y="98100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경험을 표현하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2:31:35Z</dcterms:created>
  <dc:creator>HYUPC</dc:creator>
  <dc:description/>
  <dc:language>en-US</dc:language>
  <cp:lastModifiedBy>sohui</cp:lastModifiedBy>
  <dcterms:modified xsi:type="dcterms:W3CDTF">2017-07-20T21:55:26Z</dcterms:modified>
  <cp:revision>99</cp:revision>
  <dc:subject/>
  <dc:title>슬라이드 1</dc:title>
</cp:coreProperties>
</file>